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0D264-E26D-4395-8AFE-740216198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78176-013C-486E-B5EC-30F35EFA3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B2EE3-EA7C-4C64-8E0A-3AB4A335F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216A7-8C78-4203-8C3F-1686C169E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D9D39-BA58-41F1-81E9-0E5603B4D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C484A-E935-4F18-B735-DC85E914C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3F268-FADD-495F-9899-965139BDE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3DE40-D1C6-47BD-B77F-8D5E97ACA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94B15-CE2D-45B4-9881-2A8310FA9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E800E-9E92-4488-8FC6-D84061B77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576C6-CA2C-425E-B713-538E9AC45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BCEF8-1A0B-458A-9013-8BFAD52BD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34175-6418-4EBC-A775-0D0123ABF0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844280"/>
            <a:ext cx="777240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иза методолошке валидности и клиничке значајности студиј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76360" y="3789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RS" sz="30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Интегрисане академске студије фармације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RS" sz="30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И1</a:t>
            </a:r>
            <a:r>
              <a:rPr b="0" i="1" lang="en-US" sz="30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-</a:t>
            </a:r>
            <a:r>
              <a:rPr b="0" i="1" lang="sr-RS" sz="30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Увод у фармацеутску праксу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теријуми за анализу валидности и клиничке значајности студија терапијског поступ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 ли су експериментална и контролна група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ле третиране исто сем третмана који се испитује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 ли је студија била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оструко слеп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 ли су при извођењу закључка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и пацијенти узети у обзир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 (20% 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 ли су пацијенти анализирани у групама у којима су били на почетку истраживања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8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теријуми за анализу валидности и клиничке значајности студија терапијског поступ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68360" y="2205000"/>
            <a:ext cx="8229600" cy="380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лативно смањење ризи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псолутно смањење ризи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ој болесника које треба лечити новим леком (number needed to trea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лативно смањење ризика</a:t>
            </a:r>
            <a:r>
              <a:rPr b="0" lang="sr-Latn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ос ризика за појаву лошег исхода лечења у експерименталној (ЕЕ</a:t>
            </a:r>
            <a:r>
              <a:rPr b="0" lang="sr-Latn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и контролној групи (</a:t>
            </a:r>
            <a:r>
              <a:rPr b="0" lang="sr-Latn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r>
              <a:rPr b="0" lang="sr-Latn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sr-Latn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1" lang="sr-Latn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R= EER/C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псолутно смањење ризика – разлика између појаве лошег исхода лечења након примене нове терапије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EER - Experimental Event Rate)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ризика појаве исхода лошег исхода лечења након примене већ испробане терапије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CER - Control Event Rate)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=EER-C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ој болесника које треба лечити новим леком да би се код једног од њих избегао лош исход (eng.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umber needed to trea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NT=1/AR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22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теријуми за анализу валидности и клиничке значајности студија дијагностичког поступ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процени валидности студије дијагностичког теста неопходно је тражити потврдан одговор на следећа питања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Да ли су резултати дијагностичког теста испитиваног у студији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зависно и слепо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оређени са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латним стандардом дијагнозе обољењ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теријуми за анализу валидности и клиничке значајности студија дијагностичког поступ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Да ли је испитивани дијагностички тест испитан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одговарајућем спектру пацијенат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Да ли је златни стандард употребљен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зависно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д резултата дијагностичког теста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теријуми за анализу валидности и клиничке значајности студија дијагностичког поступ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итивана популација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цијенти у различитим стадијумима болести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са различитом клиничком сликом, нелечени пацијенти, предходно лечени пацијенти, пацијенти са сличним обољењем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и и здрави део популације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теријуми за анализу валидности и клиничке значајности студија дијагностичког поступ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ви дијагностички поступак има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клиничку значајност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о је након његове примене вероватноћа да пацијент има неку болест значајно већа него пре његове примен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пходно је прерачунати следеће параметре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нзитивност, специфичност, предиктивну вредност теста и однос могућности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теријуми за анализу валидности и клиничке значајности студија дијагностичког поступ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нзитивност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проценат болесника код којих је тест позитива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фичност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проценат здравих особа код којих је тест негатива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теријуми за анализу валидности и клиничке значајности студија дијагностичког поступ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ед процене валидности треба утврдити и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ступност тест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да ли је економска страна прихватљива за пацијента, да ли ће примењени тест променити исход лечења, да ли ће пацијент прихватити извођење теста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22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де и како тражимо одговоре на питања која постављамо током третмана болесника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фаза - Претрага база података на Интернету које садрже систематске прегледне чланке о клиничком проблему који нас интересује.(Cochrane database of systematic reviews, MED-LINE ..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теријуми за анализу валидности и клиничке значајности студија прогностичког фактор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ностички фактор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свака особеност пацијента која може имати утицај на ток и природу обољења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и критеријуми су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презентативност узор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личина узор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ужина временског интервала током којег су праћени пацијент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теријуми за анализу валидности и клиничке значајности студија прогностичког фактор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звољени губитак пацијената – до 20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ход обољења је неопходно објективно утврди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</a:t>
            </a:r>
            <a:r>
              <a:rPr b="0" lang="it-IT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</a:t>
            </a:r>
            <a:r>
              <a:rPr b="0" lang="it-IT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</a:t>
            </a:r>
            <a:r>
              <a:rPr b="0" lang="it-IT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кономска</a:t>
            </a:r>
            <a:r>
              <a:rPr b="0" lang="it-IT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иза</a:t>
            </a:r>
            <a:r>
              <a:rPr b="0" lang="it-IT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лидно</a:t>
            </a:r>
            <a:r>
              <a:rPr b="0" lang="it-IT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ађена</a:t>
            </a:r>
            <a:r>
              <a:rPr b="0" lang="it-IT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 ли студија има добро дефинисани економски циљ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 ли упоређује добро дефинисане алтернативне поступке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дијагностичке или терапијске)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 ли дефинише гледиште са кога се спроводи анализа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 ли студија </a:t>
            </a:r>
            <a:r>
              <a:rPr b="1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итира добре доказе 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ефикасности алтернатив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 ли су у студији </a:t>
            </a:r>
            <a:r>
              <a:rPr b="1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дентификовани сви релевантни трошкови и ефекти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 ли се резултати могу применити на нашег пацијент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ребно је прилагодити економске студије рађене у другим земљама, пре свега за цене здравствених услу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не здравствених услуга су у Србији од 10 до 100 пута ниже од цене у развијеним земља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вор података за цене у Србији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ифна књига РФЗО-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 ли су резултати економске студије значајни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 ли су </a:t>
            </a:r>
            <a:r>
              <a:rPr b="1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ултујући трошкови или трошкови по јединици мерења импресивни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 ли се закључци студије мењају ако се у реалним границама мењају цене лечења или ефекти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 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nsitivity analysis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анализа осетљивости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минантна техника у фармакоекономији је студија испитивања односа трошкова и ефеката (eng. cost –effectiveness study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сновно правило је да интервенције које се анализирају буду поредбене у сфери трошкова и ефективности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де и како тражимо одговоре на питања која постављамо током третмана болесник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фаза – Поступак са пронађеним публикацијама које су релевантне за питање које смо поставили –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бликацији у целини се детаљно анализирају у смислу утврђивања методолошке валидности и клиничке значајност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де и како тражимо одговоре на питања која постављамо током третмана болесника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тврђивање методолошке валидности и клиничке значајности се спроводи на основу критеријума који зависе од типа студије коју анализирамо: дијагностичка, терапијска студија, прогностичка студија фармакоекономска студија, систематски прегледни рад, мета анализа...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лидност и клинички значај систематског прегледног чланк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истематски прегледни чланак 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хвата и анализира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ултате објављених клиничких студија и мета анализа 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са циљем да читаоцу представи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марну слику о неком терапијском поступку или дијагностичком тесту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Мета анализа 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истраживање у којем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цијенти из више појединачних клиничких студија истог лека се сумирају и статистичкиобраде, тако као да је рађена једна велика клиничка студиј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лидност и клинички значај систематског прегледног чланк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 би резултате представљене у систематском прегледном чланку могли прихватити као валидне,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пходно је да систематски прегледни чланак буде резултат детаљне претраге свих значајних база податак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и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изе валидности клиничке значајности истих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да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ултати обухватају само оне студије које испуњавају критеријуме валидност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лидност и клинички значај систематског прегледног чланк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иза систематског прегледног чланка у смислу процене његове валидности подразумева постојање дела </a:t>
            </a:r>
            <a:r>
              <a:rPr b="1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</a:t>
            </a:r>
            <a:r>
              <a:rPr b="0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делу МЕТОД аутори морају детаљно навести начин претраге, критеријуме које су користили за процену валидности и клиничку значајност пронађених публикација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одељка МЕТОД мора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ти јасно шта од публикација је укључено у даљу анализу и извођење закључка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лидност и клинички значај систематског прегледног чланк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атски прегледни чланак који испуњава критеријуме валидности критички анализира тему којом се бави и на транспарентан начин и независно од спољних чиниоца обрађује и процењује резултате клиничких студиј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теријуми за анализу валидности и клиничке значајности студија терапијског поступ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 ли су пацијенти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ом случајног избор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врстани у контролну и експерименталну групу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 ли су контролна и експериментална група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ичне по свему сем по испитиваном леку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09T07:57:08Z</dcterms:created>
  <dc:creator>Marina Kostic</dc:creator>
  <dc:description/>
  <dc:language>en-US</dc:language>
  <cp:lastModifiedBy>Marina Kostic</cp:lastModifiedBy>
  <dcterms:modified xsi:type="dcterms:W3CDTF">2023-09-11T10:15:06Z</dcterms:modified>
  <cp:revision>33</cp:revision>
  <dc:subject/>
  <dc:title>Анализа методолошке валидности и клиничке значајности студија</dc:title>
</cp:coreProperties>
</file>